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1F9-DA28-4E5A-AD0A-6B8B86C4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987-FCC9-4468-92B2-5C6379F7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66A-FE08-4535-9A7F-7973B8E5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C1A-4435-4F9B-98F2-1612733A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861-8472-4980-B0C6-2B52EE92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DE1-8FE2-48D1-9D4B-4BE144F2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022D-252E-4848-AEA6-B0A7F6E8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C20-FE7A-4F61-90E6-E1CA1541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E87-06BB-4F28-98DC-14BAD9D2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8E9-971F-42C9-BD38-73A94D3C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A70-B49F-4242-A225-DA4C4319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A30-3217-4B83-972A-18A8B123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AD99-2BB6-491F-A75C-6B61C4C2E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sebastian@cindoc.csic.e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9280" y="4292280"/>
            <a:ext cx="76755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r. Jesús Sebastiá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ejo Superior de Investigaciones Científicas. Españ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jsebastian@cindoc.csic.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uenos Aires, 26 – 28 Septiembre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2781360"/>
            <a:ext cx="8381880" cy="398880"/>
          </a:xfrm>
          <a:prstGeom prst="rect">
            <a:avLst/>
          </a:prstGeom>
          <a:solidFill>
            <a:srgbClr val="0099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s redes como instrumentos (¿útiles?) de co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Logotipo del CSIC"/>
          <p:cNvPicPr/>
          <p:nvPr/>
        </p:nvPicPr>
        <p:blipFill>
          <a:blip r:embed="rId2"/>
          <a:stretch/>
        </p:blipFill>
        <p:spPr>
          <a:xfrm>
            <a:off x="8001000" y="4724280"/>
            <a:ext cx="639720" cy="1086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476280"/>
            <a:ext cx="85690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XII AL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Sesión de la Red VITEC: Vinculación Tecnológica de las Universidades Nacionales de la Arge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Mesa Redonda: “Formación de redes universitarias en articulación con el sector productiv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8F6-9882-4863-ADCD-64722646B3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ideracione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s redes son organizaciones sociales: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motivaciones / intereses / cul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s redes son para lo que son: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instrumentos / medios / idoneidad para los objetivos / selección asociados / organización /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s redes son organizaciones “ad hoc”: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diversidad de tipologías / naturaleza de objetivos / asociados / tamaño / gestión / duración: sosten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ortunidades de las redes interinstitucionales: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complementación de capacidades / protagonismo y visibilidad de asociados / diversificación de financiación / incubadoras de co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C9D-BAC1-4FCD-B1CD-5B6AEFF680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bilidades de las r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cesiva amplitud de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bilidad de lideraz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cesivas asimetrías entre los asoc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ficultades de fina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cumplimiento de compromi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érdida gradual de interés por parte de los asoc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FB6-5F6D-46FE-BEEB-80BEED2DC1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diciones para el éxito de las r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oncreción de los objetivos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lección apropiada de los asociados, especialmente en las redes que requieren una mayor complementariedad para la ejecución de las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oparticipación en el diseño y consenso en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laboración de un plan de trabajo con un claro reparto de t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ompaginación del liderazgo con la práctica de la co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xistencia de una actitud proactiva por parte de los asociados para el cumplimiento de los comprom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ntimiento de estar compartiendo benefi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uena disposición frente a las diferencias cul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0E7-46C6-4083-B84A-0ED0A5F40A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es heterogén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tor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iversidades / Sectores productivos (asociaciones / empresas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lejidad: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Heterogeneidad x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néricos: Redes “macro”: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ensibilización sobre la vinculación / ganar confianza mutua / fomentar entornos favorecedores / diseñar buenas prácticas.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¿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Eficacia?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specíficos: Redes “micro”: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ctividades concretas: formación / investigación / asesoramiento / colaboración bidireccional: participación en docencia / prácticas en empresas / consor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Analizar ventajas sobre colaboración bilateral: Idone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81E-1C82-4E37-9294-8A3A3C0FBB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ndamentos de la asociación: Capital social de las univer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Arial"/>
              </a:rPr>
              <a:t>Cono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apacidades científic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técn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99"/>
                </a:solidFill>
                <a:latin typeface="Arial"/>
              </a:rPr>
              <a:t>Prototecn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AC6-1F55-4DB0-99F2-09175811AE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dalidades para vinculación / co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ción especi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ONOCIMIENT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ción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esoría exp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yectos conjuntos I+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APACIDA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atos I+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IENTÍFIC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ferencia Conocimiento/Tec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vicio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ETECNOLOG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atos de explotación pa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pin-off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1484280"/>
            <a:ext cx="64764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3141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4724280"/>
            <a:ext cx="64764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927-B278-4BD0-BB8C-43A907DA0C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1905120"/>
            <a:ext cx="7467480" cy="23619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25909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E2E-FA4F-4D49-A91F-29490D3561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6:27:57Z</dcterms:created>
  <dc:creator> </dc:creator>
  <dc:description/>
  <dc:language>en-US</dc:language>
  <cp:lastModifiedBy>JSebas</cp:lastModifiedBy>
  <dcterms:modified xsi:type="dcterms:W3CDTF">2007-09-18T12:16:01Z</dcterms:modified>
  <cp:revision>96</cp:revision>
  <dc:subject/>
  <dc:title>Diapositiva 1</dc:title>
</cp:coreProperties>
</file>